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121-7A7D-48AC-BC1F-61E45646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1B5-8466-4BDC-A3F8-D9F5D613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409-D227-40B5-B65D-95944CEC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919-269E-40A0-B2E2-BF9582E4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8C6-F4E4-4A54-B3B4-4A8B799E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73D-DA1B-455C-B690-915C47F5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63B-D9C2-4FE3-840A-53C50341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BEF-59B2-48A7-9D74-49790CAD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017-5EE3-459D-96D9-D4202C8C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B12-C4B4-4961-B2E9-464A9A4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BE6-E7E7-4871-B0F0-005FCE24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F7D-7B86-4783-9DF4-1D62A3D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E6C8-0A67-4DCF-A331-17C0295F7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2920" y="3716280"/>
            <a:ext cx="406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продукция       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знакомить учащихся с особенностями художественного описания помещения, подготовить детей к описанию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333360"/>
            <a:ext cx="3835440" cy="35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чи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картине Т. Н. Яблон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Утро "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Picture 8" descr="551"/>
          <p:cNvPicPr/>
          <p:nvPr/>
        </p:nvPicPr>
        <p:blipFill>
          <a:blip r:embed="rId2"/>
          <a:stretch/>
        </p:blipFill>
        <p:spPr>
          <a:xfrm>
            <a:off x="7885080" y="5589720"/>
            <a:ext cx="104796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Т.Н. Яблонская - Утро"/>
          <p:cNvPicPr/>
          <p:nvPr/>
        </p:nvPicPr>
        <p:blipFill>
          <a:blip r:embed="rId3"/>
          <a:stretch/>
        </p:blipFill>
        <p:spPr>
          <a:xfrm>
            <a:off x="324000" y="189000"/>
            <a:ext cx="3824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68480" y="189000"/>
            <a:ext cx="6275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нами картина Т.Н. Яблонской «Утро». На ней изображена комната девочки со столом и кроватью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еднем плане картины изображен стол с только что принесенным завтраком: хлебом, молоком в кувшине и маслом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нтральном плане изображена девочка, делающая зарядку. Ей лет десять. Она собирается в школу. У нее напряженное лицо. Она худощавая и высокая. Рядом с девочкой изображен стул. На нем лежит школьная форма. На спинке стула висит пионерский галстук. Там же стоит кровать. По ее виду заметно, что девочка только что проснулас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аднем плане – стена. На ней декоративная глиняная тарелка с птицами. Там же находится балкон нараспашку. Окно старинного типа. Наконец, на заднем плане находится город. Окна выходят на вос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м, картина мне понравилась, потому что она светлая и радостна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620640"/>
            <a:ext cx="3192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Arial"/>
              </a:rPr>
              <a:t>Вступительное слово о художниц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тьяна Ниловна Яблонская - известный мастер живописи, лауреат Государственной премии. Она изображает на полотнах простых людей, их труд. Очень любит писать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ртине " Утро " художница учит нас видеть прекрасное в обыденном, в том, что нас окружает и что мы далеко не всегда замечаем. Всё как будто очень незатейливо в этой картине. На самом деле всё в ней очень хорошо продумано и помогает художнице раскрыть свой за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0"/>
            <a:ext cx="1184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еседа по карт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спользуются вопросы, данные в упр. 177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рабочих материалов к описанию карт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Часть работы выполняется коллективно, часть — самостоятельно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020000" y="3933720"/>
            <a:ext cx="1412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Беседа по картине и параллельная запись рабочих материал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1). Что изображено на карти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2). Какое это время год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3). Опишите девочку, чем она занята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4). Как характеризует хозяйку её комнат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5). Расскажите, что мы видим в открытую на балкон двер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ро свежее, солнечное, над городом тум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, ощущается прохлада раннего у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очка худенькая, стройная, изящная, грациозная, лицо светлое, счастливое; хозяйка опрятная, делает утреннюю гимнастику. форма девочки: ленты для кос, пионерский галстук, школьное пла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ната солнечная, просторная, много воздуха и света, блестящий паркетный пол, не заставлена мебелью, круглый стол, кувшин, деревянная кровать, белоснежное постельное бельё, декоративная тарелка, кашпо с вьющимся цветком, цветок изящно свисает с балконной двери, чистота и уют, цветы на подоконнике. Видно, что маленькая хозяйка очень любит свою комнату, поддерживает чистоту и 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ман над городом, очертания зданий, утреннее небо, ясное и спокой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.Н. Яблонская - Утро"/>
          <p:cNvPicPr/>
          <p:nvPr/>
        </p:nvPicPr>
        <p:blipFill>
          <a:blip r:embed="rId2"/>
          <a:stretch/>
        </p:blipFill>
        <p:spPr>
          <a:xfrm>
            <a:off x="2195640" y="350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плана сочин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тро в го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2). Комната девочки (мебель, украшения, одеж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3). Хозяйка комн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а). Описание внеш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б). что делает дев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4). Впечатления, полученные от просмотра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524720" y="26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упреждение речевых оши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- она - хозяйка комн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Изображено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 - показано - находится и т.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236000" y="443700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397160"/>
          <a:ext cx="8569440" cy="5460840"/>
        </p:xfrm>
        <a:graphic>
          <a:graphicData uri="http://schemas.openxmlformats.org/drawingml/2006/table">
            <a:tbl>
              <a:tblPr/>
              <a:tblGrid>
                <a:gridCol w="4092840"/>
                <a:gridCol w="382320"/>
                <a:gridCol w="4094280"/>
              </a:tblGrid>
              <a:tr h="54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Сочинение по картине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Е. В. Сыромятниковой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«Первые зрители»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 этой картине была изображена комната художника. Она хорошо убрана. Окно было открыто. За окном была опушка леса, зеленая трава, слева большие бере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кно заглядывали два мальчика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Вопросы для анализа</a:t>
                      </a:r>
                      <a:br>
                        <a:rPr sz="24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лучше описывать картину в настоящем времени? Это позволит избежать повторения глагола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кроме того, то, что изобразил художник, есть и сейчас — когда мы описываем картин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дительно ли для читателя утверждение, что комната хорошо убрана? (Нет, так как дальше эта мысль не раскрыта и комнату трудно представить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WordArt 18"/>
          <p:cNvSpPr txBox="1"/>
          <p:nvPr/>
        </p:nvSpPr>
        <p:spPr>
          <a:xfrm>
            <a:off x="1763640" y="260280"/>
            <a:ext cx="6880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нализ аналогичного сочин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 недочетам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6"/>
          <a:stretch/>
        </p:blipFill>
        <p:spPr>
          <a:xfrm>
            <a:off x="395280" y="0"/>
            <a:ext cx="93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ая мысль сочи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чего написан текст?) – это душа сочинения, его стержень, то, для чего оно написано, то, что хотел сказать ав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вести картотеку с высказываниями великих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ному поводу, чтобы потом использовать их как эпиграф, вступление, заключение или цит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нее намеченная система работы с сочи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 бывает кратким и разверну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1187280" y="836640"/>
            <a:ext cx="67694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800080"/>
                </a:solidFill>
                <a:latin typeface="Arial"/>
              </a:rPr>
              <a:t>Помни!</a:t>
            </a:r>
            <a:endParaRPr b="1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Т.Н. Яблонская - Утро"/>
          <p:cNvPicPr/>
          <p:nvPr/>
        </p:nvPicPr>
        <p:blipFill>
          <a:blip r:embed="rId1"/>
          <a:stretch/>
        </p:blipFill>
        <p:spPr>
          <a:xfrm>
            <a:off x="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500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 мной картина Т.Н. Яблонской «Утро». На ней изображено утро дево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еднем плане стол с завтраком из хлеба, масла и молока. Комната просторная, светлая и очень ухоженна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картины девочка десяти лет. Она делает зарядку. А потом пойдет в школу, потому что на заднем плане перед открытым окном стоит стул, на котором висит пионерский галстук, уже поглаженный, и школьная форма. Еще перед балконом стоит кровать. Она не заправлена и помята. По-видимому, девочка только что встала и уже собирается в школу. Вид у нее приличный, аккуратный. Сама она чем-то озадачена, у нее напряженное лицо. Девочка готовится идти в школ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ом картина хорошая, потому что в ней много загадочности и смысла, так что ее можно описывать очень долг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2:41:09Z</dcterms:created>
  <dc:creator>USER</dc:creator>
  <dc:description/>
  <dc:language>en-US</dc:language>
  <cp:lastModifiedBy>Инна</cp:lastModifiedBy>
  <dcterms:modified xsi:type="dcterms:W3CDTF">2009-01-28T12:31:20Z</dcterms:modified>
  <cp:revision>6</cp:revision>
  <dc:subject/>
  <dc:title>Слайд 1</dc:title>
</cp:coreProperties>
</file>